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E36-D1B0-4C8B-831E-9D7B65B5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08FA-2C84-401E-B5E5-C7C467D4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5FBFC-A778-49D7-A852-D7DFB5A7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D9D69-5466-448B-9048-FECC4430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FBA8C-2090-4244-BD3F-1CC96A61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737A6-848D-4DE2-932C-982F3791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65265-F575-40E5-A589-51AF4CB0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41152-295C-46C3-93A1-C653093B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6D584-7226-44A4-B82F-80B5507B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FC05B-A0A7-48A0-85C4-DF918559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1CEFD-C0F5-424E-B393-69D393F4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DF07B-7389-493F-BA77-E5CE8EF5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697E-BC33-45EE-BE69-3F423733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2F1A8-BD29-49CE-8928-480328B2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4A879-6786-4532-988D-45D7F1CF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8F256-21C8-4CBA-985A-400D7F5C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0074E-EDEE-4DD1-A9E4-C7D6589D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AAA06-4FF0-4E9F-8992-8153268A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CBDFC-EE2B-478E-9B7B-E6DC5955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C6AC7-7FAB-4C0A-8785-99BEA145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2CC9B-3452-4A5F-88CB-A85BC107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B8B0C-6F63-4379-AF16-35496BBB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9D104-2071-40B7-BDC2-2D7D72FE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AABD-61A4-4EB0-A2CC-6B07A6A6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A46F8-D766-4327-9AB7-CFF721A4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A4AB1-1E6E-436F-8DC6-AB80EF1E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49085-36CC-40DA-A8C0-0F54C904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02818-F517-4603-ADD6-29C86375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3176C-D378-488A-87B3-0654F4BC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469E6-C01C-4E65-A07E-436DF211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887B8-31FA-47FA-9616-6DF2EB18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59665-CC59-477E-A122-8D09F048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8146F-26B7-4EEB-B913-79F7CD4C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9E863-2C49-4DCA-B827-A807D92D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5282-3574-4953-B8EC-CBE07420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E9A1D-0BA3-4CE8-85E4-AC5C9BDC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65E42-E138-4017-A49D-982E81CF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0F3F8-7D3E-4474-B108-543BC3FD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ACC3-B4A3-42C0-8CAF-A37860AA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7DC7-98E8-49AF-BB00-E61E027A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FF5D-F93C-4C6F-8A5D-9BD92BCB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4050-220A-4858-BB66-6CD3E343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F35E-EC17-4E36-8661-96F503D5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A9E9-BE18-4CF5-B240-3A1DAF10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F22E-FF42-45B7-A495-187F99C9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BBE9-CEA3-4C79-8ACC-3F0D4CAD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8880-B3D3-4DE0-9ECA-1C106B4D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AB35-14AE-469A-A798-150D7279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97AB-685B-4CAF-907C-E1B1309C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AEF6-B769-45E4-B960-E0D5C97E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348BC-CDE3-41FD-8C2C-88BCC7A6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29909-64F8-44D0-9C61-5E972C8E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36EA8-BDE8-41F6-AEB7-DD1ADD2B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29173-3E1E-4780-8D0B-7D09BFFD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6EE65-2DE0-4D5D-A55F-564B61DC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2B1B-8C18-4861-955F-6CCA7D80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96DBF-2E4F-4E48-9610-999CD04E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67A46-2B5F-4E2D-ACE1-E81CAF46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E3172-50A1-49B4-B634-227143E1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C88E9-5B8D-47AC-9954-2074AF16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4F713-00FE-4BD5-AFA0-B786BEF2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8E822-C1E6-437B-B0D5-B7D2C924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FE780-DD91-469F-8DCA-EFD61831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1C2DF-B158-4709-A952-A66EC205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B6A5B-57B2-4FAD-A797-C7E6CB5C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70B6F-7D58-4E40-A3AD-A7ABCA57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206B-0E6B-4BE1-B222-FCD9F2B7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65D41-ADF0-46CD-90CE-9D42B622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E76F7-1392-446F-9064-7218F2E6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C39DF-4C4F-434D-8863-6A3A187F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29E21-E7CB-4881-B603-CAD16BE9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048C0-BB2B-4A28-B419-B846EED7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381D3-6BCE-44C9-BDCA-688EF882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ED003-BDB7-4624-A2C0-48263565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E3ED2-526C-4B56-84DE-3B2246A1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EA2BC-E300-44A9-8E08-20CED684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12BD0-BEAB-4D5D-BA76-7D115A3B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6292-2B8B-41F3-B3EE-DD6C793C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DF188-998A-4D2F-A53A-3B0B1360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7BA77-B91E-4F1F-850A-2EEE3E2D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23FEE-2312-4F29-801C-8E6D5EC0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9AB80-11D8-42D6-A945-3B5DB974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C4A4A-DE6E-4945-AF66-43AE2C7F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F806E-5CCE-4747-A6E1-4BE47A7A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FE864-7FE2-40C8-85A6-4468D537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81903-15A8-4564-920B-8C322AF1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514C7-61CF-4F80-AA65-FBC6A612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09884-AC8D-4C37-B57A-E093614D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4475-33B6-4DCA-8264-1EBFB7F8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F7C19-DBF4-40A9-83EA-393D2C7A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93AF3-F6A4-449F-AD14-D136C309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FDBE5-9EF4-473F-90B2-570AA8A6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6814C-B339-4A78-A17A-53B8C121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32126-5926-454F-A248-FA5F6088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92FBE-2D9F-4FF3-83ED-C9699746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D1AF6-1D52-41BB-ACE0-16AE690C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CBE75-AAD8-43D2-9A9D-3A7A4D55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91506-B7A7-45FC-990C-F3B5CB28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78A8F-11BE-4EE9-9612-4BA7266F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420D-83C2-4A4E-B406-C51BF0C8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8E4C1-CF69-4BAC-B8DD-B764FF98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A912E-A473-45F4-B3CB-96DB5030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176C2-A50A-4237-9374-282CC8F8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52FEA-FC7A-4CDC-B239-9D34E933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961F6-E633-423C-9431-D5D0291C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D3538-659C-470D-91BE-9DDDB35A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714CB-A9B8-4A0D-BB5D-699A7482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B9F52-55D8-41E8-AADC-F8649BB2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F7AF7-10D2-4BFE-B939-0A363DB6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52B5A-40C2-4E82-890E-4FEBC996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AB35-6177-4791-A939-6E187EAE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99D09-2152-49DE-83A1-F831C0AE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48782-C3FF-4477-BCAE-64675F3B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9F7B5-163B-43B6-8E65-1468E5CC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8F607-53BF-46B9-9ACD-C65DEF5E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1756D-FD75-4232-A219-2997017F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57751-9638-4D2A-A308-5B919978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2F9A6-6840-407F-95C4-B18F40C6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F8365-92BA-4DF5-8526-862F1909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D2431-F638-44BC-8A44-B162D094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6C206-88A9-41AD-BCAF-22829C40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416E-037E-4098-80DD-B3A2C79D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D7812-864F-4CD8-ADE9-06586968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9CBAE-26EE-445C-8375-61BC7CB7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268D9-1EB4-4BE1-9729-012B5053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7BCB8-F3B8-4704-A6E9-1FF04F24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BB5B1-95AD-429E-BB19-6B3CC275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46CCD-0AB4-4383-87A4-A169DC6D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22A3E-A182-4218-BF77-5AFB2D7F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98F76-07A4-4A92-A0E1-9F89D1BB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D74ED-F98E-4AC6-BF83-6ABC9D66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2DAB3-0F4D-4602-B97C-08F884A7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7992-8318-4B3C-8810-A679FFB98C90}" type="slidenum"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6"/>
          <p:cNvGrpSpPr/>
          <p:nvPr/>
        </p:nvGrpSpPr>
        <p:grpSpPr>
          <a:xfrm>
            <a:off x="-360" y="0"/>
            <a:ext cx="1143360" cy="6858000"/>
            <a:chOff x="-360" y="0"/>
            <a:chExt cx="1143360" cy="6858000"/>
          </a:xfrm>
        </p:grpSpPr>
        <p:sp>
          <p:nvSpPr>
            <p:cNvPr id="401" name="Rectangle 7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b83d68"/>
            </a:solidFill>
            <a:ln w="255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8"/>
            <p:cNvSpPr/>
            <p:nvPr/>
          </p:nvSpPr>
          <p:spPr>
            <a:xfrm rot="10800000">
              <a:off x="304200" y="0"/>
              <a:ext cx="152280" cy="6858000"/>
            </a:xfrm>
            <a:prstGeom prst="rect">
              <a:avLst/>
            </a:prstGeom>
            <a:solidFill>
              <a:srgbClr val="d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9"/>
            <p:cNvSpPr/>
            <p:nvPr/>
          </p:nvSpPr>
          <p:spPr>
            <a:xfrm rot="10800000">
              <a:off x="0" y="0"/>
              <a:ext cx="228600" cy="6858000"/>
            </a:xfrm>
            <a:prstGeom prst="rect">
              <a:avLst/>
            </a:prstGeom>
            <a:solidFill>
              <a:srgbClr val="e5a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656F-0DE5-4347-BBE5-D3CB70BB9D02}" type="slidenum"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6"/>
          <p:cNvGrpSpPr/>
          <p:nvPr/>
        </p:nvGrpSpPr>
        <p:grpSpPr>
          <a:xfrm>
            <a:off x="0" y="-360"/>
            <a:ext cx="9144000" cy="1143360"/>
            <a:chOff x="0" y="-360"/>
            <a:chExt cx="9144000" cy="1143360"/>
          </a:xfrm>
        </p:grpSpPr>
        <p:sp>
          <p:nvSpPr>
            <p:cNvPr id="446" name="Rectangle 7"/>
            <p:cNvSpPr/>
            <p:nvPr/>
          </p:nvSpPr>
          <p:spPr>
            <a:xfrm rot="5400000">
              <a:off x="4000320" y="-4000320"/>
              <a:ext cx="1143000" cy="9144000"/>
            </a:xfrm>
            <a:prstGeom prst="rect">
              <a:avLst/>
            </a:prstGeom>
            <a:solidFill>
              <a:srgbClr val="b83d68"/>
            </a:solidFill>
            <a:ln w="255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8"/>
            <p:cNvSpPr/>
            <p:nvPr/>
          </p:nvSpPr>
          <p:spPr>
            <a:xfrm rot="16200000">
              <a:off x="4495680" y="-4191480"/>
              <a:ext cx="152280" cy="9144000"/>
            </a:xfrm>
            <a:prstGeom prst="rect">
              <a:avLst/>
            </a:prstGeom>
            <a:solidFill>
              <a:srgbClr val="d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9"/>
            <p:cNvSpPr/>
            <p:nvPr/>
          </p:nvSpPr>
          <p:spPr>
            <a:xfrm rot="16200000">
              <a:off x="4457520" y="-4457880"/>
              <a:ext cx="228600" cy="9144000"/>
            </a:xfrm>
            <a:prstGeom prst="rect">
              <a:avLst/>
            </a:prstGeom>
            <a:solidFill>
              <a:srgbClr val="e5a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3BC8-12E4-458A-974D-AE1D98098847}" type="slidenum"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-228600" y="0"/>
            <a:ext cx="1143000" cy="6858000"/>
          </a:xfrm>
          <a:prstGeom prst="rect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 rot="5400000">
            <a:off x="4152600" y="1638000"/>
            <a:ext cx="609480" cy="9372600"/>
          </a:xfrm>
          <a:prstGeom prst="rect">
            <a:avLst/>
          </a:prstGeom>
          <a:solidFill>
            <a:srgbClr val="d788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 rot="5400000">
            <a:off x="4152240" y="-4228920"/>
            <a:ext cx="609840" cy="9372600"/>
          </a:xfrm>
          <a:prstGeom prst="rect">
            <a:avLst/>
          </a:prstGeom>
          <a:solidFill>
            <a:srgbClr val="e5a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7D30-9183-4C81-AF8A-35022D11E081}" type="slidenum"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1"/>
          <p:cNvGrpSpPr/>
          <p:nvPr/>
        </p:nvGrpSpPr>
        <p:grpSpPr>
          <a:xfrm>
            <a:off x="-360" y="0"/>
            <a:ext cx="1143360" cy="6858000"/>
            <a:chOff x="-360" y="0"/>
            <a:chExt cx="1143360" cy="6858000"/>
          </a:xfrm>
        </p:grpSpPr>
        <p:sp>
          <p:nvSpPr>
            <p:cNvPr id="86" name="Rectangle 7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b83d68"/>
            </a:solidFill>
            <a:ln w="255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 rot="10800000">
              <a:off x="304200" y="0"/>
              <a:ext cx="152280" cy="6858000"/>
            </a:xfrm>
            <a:prstGeom prst="rect">
              <a:avLst/>
            </a:prstGeom>
            <a:solidFill>
              <a:srgbClr val="d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 rot="10800000">
              <a:off x="0" y="0"/>
              <a:ext cx="228600" cy="6858000"/>
            </a:xfrm>
            <a:prstGeom prst="rect">
              <a:avLst/>
            </a:prstGeom>
            <a:solidFill>
              <a:srgbClr val="e5a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9334-088F-4E45-82BA-0F44A1690537}" type="slidenum"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6"/>
          <p:cNvGrpSpPr/>
          <p:nvPr/>
        </p:nvGrpSpPr>
        <p:grpSpPr>
          <a:xfrm>
            <a:off x="-360" y="0"/>
            <a:ext cx="1143360" cy="6858000"/>
            <a:chOff x="-360" y="0"/>
            <a:chExt cx="1143360" cy="6858000"/>
          </a:xfrm>
        </p:grpSpPr>
        <p:sp>
          <p:nvSpPr>
            <p:cNvPr id="131" name="Rectangle 7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b83d68"/>
            </a:solidFill>
            <a:ln w="255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8"/>
            <p:cNvSpPr/>
            <p:nvPr/>
          </p:nvSpPr>
          <p:spPr>
            <a:xfrm rot="10800000">
              <a:off x="304200" y="0"/>
              <a:ext cx="152280" cy="6858000"/>
            </a:xfrm>
            <a:prstGeom prst="rect">
              <a:avLst/>
            </a:prstGeom>
            <a:solidFill>
              <a:srgbClr val="d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9"/>
            <p:cNvSpPr/>
            <p:nvPr/>
          </p:nvSpPr>
          <p:spPr>
            <a:xfrm rot="10800000">
              <a:off x="0" y="0"/>
              <a:ext cx="228600" cy="6858000"/>
            </a:xfrm>
            <a:prstGeom prst="rect">
              <a:avLst/>
            </a:prstGeom>
            <a:solidFill>
              <a:srgbClr val="e5a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3033-2E85-4FD8-812E-7ACCFBA8F37C}" type="slidenum"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6"/>
          <p:cNvGrpSpPr/>
          <p:nvPr/>
        </p:nvGrpSpPr>
        <p:grpSpPr>
          <a:xfrm>
            <a:off x="-360" y="0"/>
            <a:ext cx="1143360" cy="6858000"/>
            <a:chOff x="-360" y="0"/>
            <a:chExt cx="1143360" cy="6858000"/>
          </a:xfrm>
        </p:grpSpPr>
        <p:sp>
          <p:nvSpPr>
            <p:cNvPr id="176" name="Rectangle 7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b83d68"/>
            </a:solidFill>
            <a:ln w="255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8"/>
            <p:cNvSpPr/>
            <p:nvPr/>
          </p:nvSpPr>
          <p:spPr>
            <a:xfrm rot="10800000">
              <a:off x="304200" y="0"/>
              <a:ext cx="152280" cy="6858000"/>
            </a:xfrm>
            <a:prstGeom prst="rect">
              <a:avLst/>
            </a:prstGeom>
            <a:solidFill>
              <a:srgbClr val="d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9"/>
            <p:cNvSpPr/>
            <p:nvPr/>
          </p:nvSpPr>
          <p:spPr>
            <a:xfrm rot="10800000">
              <a:off x="0" y="0"/>
              <a:ext cx="228600" cy="6858000"/>
            </a:xfrm>
            <a:prstGeom prst="rect">
              <a:avLst/>
            </a:prstGeom>
            <a:solidFill>
              <a:srgbClr val="e5a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DCEC-5AF5-43A0-B820-A96702B85C95}" type="slidenum"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6"/>
          <p:cNvGrpSpPr/>
          <p:nvPr/>
        </p:nvGrpSpPr>
        <p:grpSpPr>
          <a:xfrm>
            <a:off x="-360" y="0"/>
            <a:ext cx="1143360" cy="6858000"/>
            <a:chOff x="-360" y="0"/>
            <a:chExt cx="1143360" cy="6858000"/>
          </a:xfrm>
        </p:grpSpPr>
        <p:sp>
          <p:nvSpPr>
            <p:cNvPr id="221" name="Rectangle 7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b83d68"/>
            </a:solidFill>
            <a:ln w="255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8"/>
            <p:cNvSpPr/>
            <p:nvPr/>
          </p:nvSpPr>
          <p:spPr>
            <a:xfrm rot="10800000">
              <a:off x="304200" y="0"/>
              <a:ext cx="152280" cy="6858000"/>
            </a:xfrm>
            <a:prstGeom prst="rect">
              <a:avLst/>
            </a:prstGeom>
            <a:solidFill>
              <a:srgbClr val="d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9"/>
            <p:cNvSpPr/>
            <p:nvPr/>
          </p:nvSpPr>
          <p:spPr>
            <a:xfrm rot="10800000">
              <a:off x="0" y="0"/>
              <a:ext cx="228600" cy="6858000"/>
            </a:xfrm>
            <a:prstGeom prst="rect">
              <a:avLst/>
            </a:prstGeom>
            <a:solidFill>
              <a:srgbClr val="e5a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FD11-EBF9-4D65-B332-22227EC18545}" type="slidenum"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9"/>
          <p:cNvGrpSpPr/>
          <p:nvPr/>
        </p:nvGrpSpPr>
        <p:grpSpPr>
          <a:xfrm>
            <a:off x="-360" y="0"/>
            <a:ext cx="1143360" cy="6858000"/>
            <a:chOff x="-360" y="0"/>
            <a:chExt cx="1143360" cy="6858000"/>
          </a:xfrm>
        </p:grpSpPr>
        <p:sp>
          <p:nvSpPr>
            <p:cNvPr id="266" name="Rectangle 7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b83d68"/>
            </a:solidFill>
            <a:ln w="255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 rot="10800000">
              <a:off x="304200" y="0"/>
              <a:ext cx="152280" cy="6858000"/>
            </a:xfrm>
            <a:prstGeom prst="rect">
              <a:avLst/>
            </a:prstGeom>
            <a:solidFill>
              <a:srgbClr val="d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"/>
            <p:cNvSpPr/>
            <p:nvPr/>
          </p:nvSpPr>
          <p:spPr>
            <a:xfrm rot="10800000">
              <a:off x="0" y="0"/>
              <a:ext cx="228600" cy="6858000"/>
            </a:xfrm>
            <a:prstGeom prst="rect">
              <a:avLst/>
            </a:prstGeom>
            <a:solidFill>
              <a:srgbClr val="e5a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E05E-09F8-44BF-9C21-68F0FC9C9CCF}" type="slidenum"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6"/>
          <p:cNvGrpSpPr/>
          <p:nvPr/>
        </p:nvGrpSpPr>
        <p:grpSpPr>
          <a:xfrm>
            <a:off x="-360" y="0"/>
            <a:ext cx="1143360" cy="6858000"/>
            <a:chOff x="-360" y="0"/>
            <a:chExt cx="1143360" cy="6858000"/>
          </a:xfrm>
        </p:grpSpPr>
        <p:sp>
          <p:nvSpPr>
            <p:cNvPr id="311" name="Rectangle 7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b83d68"/>
            </a:solidFill>
            <a:ln w="255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8"/>
            <p:cNvSpPr/>
            <p:nvPr/>
          </p:nvSpPr>
          <p:spPr>
            <a:xfrm rot="10800000">
              <a:off x="304200" y="0"/>
              <a:ext cx="152280" cy="6858000"/>
            </a:xfrm>
            <a:prstGeom prst="rect">
              <a:avLst/>
            </a:prstGeom>
            <a:solidFill>
              <a:srgbClr val="d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9"/>
            <p:cNvSpPr/>
            <p:nvPr/>
          </p:nvSpPr>
          <p:spPr>
            <a:xfrm rot="10800000">
              <a:off x="0" y="0"/>
              <a:ext cx="228600" cy="6858000"/>
            </a:xfrm>
            <a:prstGeom prst="rect">
              <a:avLst/>
            </a:prstGeom>
            <a:solidFill>
              <a:srgbClr val="e5a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1DF5-9D77-4CA7-AEF2-453431F2422F}" type="slidenum"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6"/>
          <p:cNvGrpSpPr/>
          <p:nvPr/>
        </p:nvGrpSpPr>
        <p:grpSpPr>
          <a:xfrm>
            <a:off x="-360" y="0"/>
            <a:ext cx="1143360" cy="6858000"/>
            <a:chOff x="-360" y="0"/>
            <a:chExt cx="1143360" cy="6858000"/>
          </a:xfrm>
        </p:grpSpPr>
        <p:sp>
          <p:nvSpPr>
            <p:cNvPr id="356" name="Rectangle 7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b83d68"/>
            </a:solidFill>
            <a:ln w="255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8"/>
            <p:cNvSpPr/>
            <p:nvPr/>
          </p:nvSpPr>
          <p:spPr>
            <a:xfrm rot="10800000">
              <a:off x="304200" y="0"/>
              <a:ext cx="152280" cy="6858000"/>
            </a:xfrm>
            <a:prstGeom prst="rect">
              <a:avLst/>
            </a:prstGeom>
            <a:solidFill>
              <a:srgbClr val="d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9"/>
            <p:cNvSpPr/>
            <p:nvPr/>
          </p:nvSpPr>
          <p:spPr>
            <a:xfrm rot="10800000">
              <a:off x="0" y="0"/>
              <a:ext cx="228600" cy="6858000"/>
            </a:xfrm>
            <a:prstGeom prst="rect">
              <a:avLst/>
            </a:prstGeom>
            <a:solidFill>
              <a:srgbClr val="e5a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pperplate Gothic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FC9B-1078-4BF0-892F-875F0D10CFFC}" type="slidenum">
              <a:rPr b="0" lang="en-US" sz="1200" spc="-1" strike="noStrike">
                <a:solidFill>
                  <a:srgbClr val="898989"/>
                </a:solidFill>
                <a:latin typeface="Copperplate Gothic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afc2"/>
                </a:solidFill>
                <a:latin typeface="Copperplate Gothic Bold"/>
              </a:rPr>
              <a:t>Kitchen Safety</a:t>
            </a:r>
            <a:endParaRPr b="0" lang="en-US" sz="6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1219320" y="327636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Be SAFE!!!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492" name="Picture 5" descr="C:\Documents and Settings\Mrs. Jefferson\Local Settings\Temporary Internet Files\Content.IE5\RPAETUJ1\MC900352407[1].wmf"/>
          <p:cNvPicPr/>
          <p:nvPr/>
        </p:nvPicPr>
        <p:blipFill>
          <a:blip r:embed="rId1"/>
          <a:stretch/>
        </p:blipFill>
        <p:spPr>
          <a:xfrm rot="9806400">
            <a:off x="437400" y="2418480"/>
            <a:ext cx="1965240" cy="3365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5" descr="C:\Documents and Settings\Mrs. Jefferson\Local Settings\Temporary Internet Files\Content.IE5\RPAETUJ1\MC900352407[1].wmf"/>
          <p:cNvPicPr/>
          <p:nvPr/>
        </p:nvPicPr>
        <p:blipFill>
          <a:blip r:embed="rId2"/>
          <a:stretch/>
        </p:blipFill>
        <p:spPr>
          <a:xfrm flipH="1" rot="11630400">
            <a:off x="6767640" y="2398320"/>
            <a:ext cx="1996920" cy="34210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6" descr="C:\Documents and Settings\Mrs. Jefferson\Local Settings\Temporary Internet Files\Content.IE5\GLOFOII9\MC900335778[1].wmf"/>
          <p:cNvPicPr/>
          <p:nvPr/>
        </p:nvPicPr>
        <p:blipFill>
          <a:blip r:embed="rId3"/>
          <a:stretch/>
        </p:blipFill>
        <p:spPr>
          <a:xfrm rot="2074800">
            <a:off x="2727000" y="1792440"/>
            <a:ext cx="3570120" cy="2396880"/>
          </a:xfrm>
          <a:prstGeom prst="rect">
            <a:avLst/>
          </a:prstGeom>
          <a:ln w="0">
            <a:noFill/>
          </a:ln>
        </p:spPr>
      </p:pic>
      <p:sp>
        <p:nvSpPr>
          <p:cNvPr id="495" name="TextBox 9"/>
          <p:cNvSpPr/>
          <p:nvPr/>
        </p:nvSpPr>
        <p:spPr>
          <a:xfrm>
            <a:off x="6553080" y="62485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Light"/>
              </a:rPr>
              <a:t>© 2010 Just F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afc2"/>
                </a:solidFill>
                <a:latin typeface="Copperplate Gothic Bold"/>
              </a:rPr>
              <a:t>Kitchen Safety Tips for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pic>
        <p:nvPicPr>
          <p:cNvPr id="49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69976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afc2"/>
                </a:solidFill>
                <a:latin typeface="Copperplate Gothic Bold"/>
              </a:rPr>
              <a:t>Preventing Burns/Fire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124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afc2"/>
                </a:solidFill>
                <a:latin typeface="Copperplate Gothic Light"/>
              </a:rPr>
              <a:t>Tips 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837720" y="2133360"/>
            <a:ext cx="404028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d7e0"/>
                </a:solidFill>
                <a:latin typeface="Copperplate Gothic Light"/>
              </a:rPr>
              <a:t>Keep hair tied back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d7e0"/>
                </a:solidFill>
                <a:latin typeface="Copperplate Gothic Light"/>
              </a:rPr>
              <a:t>Always use oven mitts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d7e0"/>
                </a:solidFill>
                <a:latin typeface="Copperplate Gothic Light"/>
              </a:rPr>
              <a:t>Turn panhandles inward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d7e0"/>
                </a:solidFill>
                <a:latin typeface="Copperplate Gothic Light"/>
              </a:rPr>
              <a:t>Tilt pot lid away from face to prevent burns from steam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d7e0"/>
                </a:solidFill>
                <a:latin typeface="Copperplate Gothic Light"/>
              </a:rPr>
              <a:t>Keep towels and other materials away from heating elements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d7e0"/>
                </a:solidFill>
                <a:latin typeface="Copperplate Gothic Light"/>
              </a:rPr>
              <a:t>Clean grease and bits of food off oven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afc2"/>
                </a:solidFill>
                <a:latin typeface="Copperplate Gothic Light"/>
              </a:rPr>
              <a:t>Treating Minor burns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800240" y="2209680"/>
            <a:ext cx="4041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Run under cool water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Apply lotion, moisturizer or burn crème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Cover loosely with clean gauze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503" name="Picture 2" descr="C:\Documents and Settings\Mrs. Jefferson\Local Settings\Temporary Internet Files\Content.IE5\1C7ID1UH\MC900441753[1].png"/>
          <p:cNvPicPr/>
          <p:nvPr/>
        </p:nvPicPr>
        <p:blipFill>
          <a:blip r:embed="rId1"/>
          <a:stretch/>
        </p:blipFill>
        <p:spPr>
          <a:xfrm>
            <a:off x="6781680" y="46483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afc2"/>
                </a:solidFill>
                <a:latin typeface="Copperplate Gothic Bold"/>
              </a:rPr>
              <a:t>Preventing Fires/Burn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2d7e0"/>
                </a:solidFill>
                <a:latin typeface="Copperplate Gothic Light"/>
              </a:rPr>
              <a:t>Extinguish fires with:</a:t>
            </a:r>
            <a:endParaRPr b="0" lang="en-US" sz="30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Fire Extinguisher by following the PASS steps 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2d7e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d7e0"/>
                </a:solidFill>
                <a:latin typeface="Copperplate Gothic Light"/>
              </a:rPr>
              <a:t>Pull Pin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2d7e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d7e0"/>
                </a:solidFill>
                <a:latin typeface="Copperplate Gothic Light"/>
              </a:rPr>
              <a:t>Aim at Base of Fire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2d7e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d7e0"/>
                </a:solidFill>
                <a:latin typeface="Copperplate Gothic Light"/>
              </a:rPr>
              <a:t>Spray fire while using a 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2d7e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d7e0"/>
                </a:solidFill>
                <a:latin typeface="Copperplate Gothic Light"/>
              </a:rPr>
              <a:t>Sweeping motion</a:t>
            </a:r>
            <a:endParaRPr b="0" lang="en-US" sz="2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Smother fires with Salt, baking Soda or wet towel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Never put water on a Grease Fire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Don’t Panic!!!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506" name="Picture 2" descr="C:\Documents and Settings\Mrs. Jefferson\Local Settings\Temporary Internet Files\Content.IE5\171IDELD\MC900013390[1].wmf"/>
          <p:cNvPicPr/>
          <p:nvPr/>
        </p:nvPicPr>
        <p:blipFill>
          <a:blip r:embed="rId1"/>
          <a:stretch/>
        </p:blipFill>
        <p:spPr>
          <a:xfrm>
            <a:off x="7238880" y="2979720"/>
            <a:ext cx="190512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afc2"/>
                </a:solidFill>
                <a:latin typeface="Copperplate Gothic Bold"/>
              </a:rPr>
              <a:t>Preventing Fall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6840" y="1599840"/>
            <a:ext cx="6553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d7e0"/>
                </a:solidFill>
                <a:latin typeface="Copperplate Gothic Light"/>
              </a:rPr>
              <a:t>Tips</a:t>
            </a:r>
            <a:endParaRPr b="0" lang="en-US" sz="30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Clean up Spills immediately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Keep floor clear of clutter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Make sure rugs are secure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Make sure shoes fit and all laces are tied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d7e0"/>
                </a:solidFill>
                <a:latin typeface="Copperplate Gothic Light"/>
              </a:rPr>
              <a:t>Treating Falls</a:t>
            </a:r>
            <a:endParaRPr b="0" lang="en-US" sz="30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Leave person on floor if anything seems to be broken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Alert an adult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509" name="Picture 4" descr="C:\Documents and Settings\Mrs. Jefferson\Local Settings\Temporary Internet Files\Content.IE5\5R905AFO\MC900097877[1].wmf"/>
          <p:cNvPicPr/>
          <p:nvPr/>
        </p:nvPicPr>
        <p:blipFill>
          <a:blip r:embed="rId1"/>
          <a:stretch/>
        </p:blipFill>
        <p:spPr>
          <a:xfrm>
            <a:off x="6172200" y="1600200"/>
            <a:ext cx="2795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afc2"/>
                </a:solidFill>
                <a:latin typeface="Copperplate Gothic Bold"/>
              </a:rPr>
              <a:t>Preventing Cut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afc2"/>
                </a:solidFill>
                <a:latin typeface="Copperplate Gothic Light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62120" y="220968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d7e0"/>
                </a:solidFill>
                <a:latin typeface="Copperplate Gothic Light"/>
              </a:rPr>
              <a:t>Keep Knives sharp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d7e0"/>
                </a:solidFill>
                <a:latin typeface="Copperplate Gothic Light"/>
              </a:rPr>
              <a:t>Always hold knives by the handle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d7e0"/>
                </a:solidFill>
                <a:latin typeface="Copperplate Gothic Light"/>
              </a:rPr>
              <a:t>Wash knives separately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d7e0"/>
                </a:solidFill>
                <a:latin typeface="Copperplate Gothic Light"/>
              </a:rPr>
              <a:t>Don’t try to catch a falling knife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d7e0"/>
                </a:solidFill>
                <a:latin typeface="Copperplate Gothic Light"/>
              </a:rPr>
              <a:t>Keep fingers away from rough surfaces, slicing edges and rotating beaters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d7e0"/>
                </a:solidFill>
                <a:latin typeface="Copperplate Gothic Light"/>
              </a:rPr>
              <a:t>Sweep up glass immediately with broom and dustpan 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afc2"/>
                </a:solidFill>
                <a:latin typeface="Copperplate Gothic Light"/>
              </a:rPr>
              <a:t>Treatment for cuts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Clean cuts by running under warm water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499"/>
              </a:spcBef>
              <a:buClr>
                <a:srgbClr val="f2d7e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d7e0"/>
                </a:solidFill>
                <a:latin typeface="Copperplate Gothic Light"/>
              </a:rPr>
              <a:t>Apply pressure if bleeding is heavy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Apply antibacterial crème or spray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Bandage with clean gauze or band-aid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515" name="Picture 2" descr="C:\Documents and Settings\Mrs. Jefferson\Local Settings\Temporary Internet Files\Content.IE5\171IDELD\MC900340442[1].wmf"/>
          <p:cNvPicPr/>
          <p:nvPr/>
        </p:nvPicPr>
        <p:blipFill>
          <a:blip r:embed="rId1"/>
          <a:stretch/>
        </p:blipFill>
        <p:spPr>
          <a:xfrm rot="19825800">
            <a:off x="3374640" y="4811760"/>
            <a:ext cx="3168720" cy="24717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" descr="C:\Documents and Settings\Mrs. Jefferson\Local Settings\Temporary Internet Files\Content.IE5\1C7ID1UH\MC900040376[1].wmf"/>
          <p:cNvPicPr/>
          <p:nvPr/>
        </p:nvPicPr>
        <p:blipFill>
          <a:blip r:embed="rId2"/>
          <a:stretch/>
        </p:blipFill>
        <p:spPr>
          <a:xfrm>
            <a:off x="7162920" y="228600"/>
            <a:ext cx="16747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afc2"/>
                </a:solidFill>
                <a:latin typeface="Copperplate Gothic Bold"/>
              </a:rPr>
              <a:t>Preventing choking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afc2"/>
                </a:solidFill>
                <a:latin typeface="Copperplate Gothic Light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762120" y="21333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Chew with your mouth closed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Don’t talk and laugh with your mouth full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Don’t play with your mount food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Chew your food thoroughly before swallowing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afc2"/>
                </a:solidFill>
                <a:latin typeface="Copperplate Gothic Light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Apply Heimlich maneuver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Alert adult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522" name="Picture 2" descr="C:\Documents and Settings\Mrs. Jefferson\Local Settings\Temporary Internet Files\Content.IE5\GPTR0YJ5\MC900359041[1].wmf"/>
          <p:cNvPicPr/>
          <p:nvPr/>
        </p:nvPicPr>
        <p:blipFill>
          <a:blip r:embed="rId1"/>
          <a:stretch/>
        </p:blipFill>
        <p:spPr>
          <a:xfrm>
            <a:off x="5459400" y="3429000"/>
            <a:ext cx="3308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afc2"/>
                </a:solidFill>
                <a:latin typeface="Copperplate Gothic Bold"/>
              </a:rPr>
              <a:t>Preventing Shock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afc2"/>
                </a:solidFill>
                <a:latin typeface="Copperplate Gothic Light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6840" y="1752120"/>
            <a:ext cx="4040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d7e0"/>
                </a:solidFill>
                <a:latin typeface="Copperplate Gothic Light"/>
              </a:rPr>
              <a:t>No aluminum foil or any metal in the microwave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49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d7e0"/>
                </a:solidFill>
                <a:latin typeface="Copperplate Gothic Light"/>
              </a:rPr>
              <a:t>Don’t plug in several appliances at once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49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d7e0"/>
                </a:solidFill>
                <a:latin typeface="Copperplate Gothic Light"/>
              </a:rPr>
              <a:t>Always unplug appliances after use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49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d7e0"/>
                </a:solidFill>
                <a:latin typeface="Copperplate Gothic Light"/>
              </a:rPr>
              <a:t>Make sure hands are dry when dealing with electric appliances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49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d7e0"/>
                </a:solidFill>
                <a:latin typeface="Copperplate Gothic Light"/>
              </a:rPr>
              <a:t>Keep all electrical appliances and cords away from water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afc2"/>
                </a:solidFill>
                <a:latin typeface="Copperplate Gothic Light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Unplug appliance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Do not touch appliance or person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601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d7e0"/>
                </a:solidFill>
                <a:latin typeface="Copperplate Gothic Light"/>
              </a:rPr>
              <a:t>Notify adult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528" name="Picture 2" descr="C:\Documents and Settings\Mrs. Jefferson\Local Settings\Temporary Internet Files\Content.IE5\V5WFIWPL\MC900056277[1].wmf"/>
          <p:cNvPicPr/>
          <p:nvPr/>
        </p:nvPicPr>
        <p:blipFill>
          <a:blip r:embed="rId1"/>
          <a:stretch/>
        </p:blipFill>
        <p:spPr>
          <a:xfrm>
            <a:off x="6019920" y="4114800"/>
            <a:ext cx="28954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afc2"/>
                </a:solidFill>
                <a:latin typeface="Copperplate Gothic Bold"/>
              </a:rPr>
              <a:t>Other ways to be safe in the kitchen!  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09120" y="1752480"/>
            <a:ext cx="4038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Keep chemicals away from foods and food preparation areas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Store foods properly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Cook foods thoroughly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Always wash your hands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2d7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d7e0"/>
                </a:solidFill>
                <a:latin typeface="Copperplate Gothic Light"/>
              </a:rPr>
              <a:t>Store heavy items on bottom shelves</a:t>
            </a:r>
            <a:endParaRPr b="0" lang="en-US" sz="26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531" name="Picture 5" descr="C:\ART\info_kit.gif"/>
          <p:cNvPicPr/>
          <p:nvPr/>
        </p:nvPicPr>
        <p:blipFill>
          <a:blip r:embed="rId1"/>
          <a:stretch/>
        </p:blipFill>
        <p:spPr>
          <a:xfrm>
            <a:off x="4800600" y="1752480"/>
            <a:ext cx="40384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9:22:14Z</dcterms:created>
  <dc:creator>tjefferson</dc:creator>
  <dc:description/>
  <cp:keywords/>
  <dc:language>en-US</dc:language>
  <cp:lastModifiedBy>tjefferson</cp:lastModifiedBy>
  <dcterms:modified xsi:type="dcterms:W3CDTF">2010-10-20T14:59:38Z</dcterms:modified>
  <cp:revision>3</cp:revision>
  <dc:subject/>
  <dc:title>Kitchen Safe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52159990</vt:lpwstr>
  </property>
</Properties>
</file>